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A12F5-5C05-4059-B202-DDE8054C4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0C69C-164D-466B-A77A-FA2FC284E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CDEC7-E0AC-4156-8E78-6DD7A3C8F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BEAE3-F373-4BA4-8608-9E6F38997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995BA-0D96-4B10-AD2B-9DF858466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B06CD-8DC3-47F0-BEA2-3FB4AB8E2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74574-B5F5-49A5-BB84-7800A5205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AEFBB-B5CC-46AD-B0C2-CB71CD5E6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0F170-79C8-4723-B947-32F485D20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4B78C-E930-4A33-BEEB-1D49960DA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22E01-ED61-49FA-B406-BFE0C0752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A2F48-8C12-4313-A7E3-82EB2462E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D286F-5CB1-4647-9F7C-26FE56187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CAA1A-55C4-438B-A478-D59203C74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8D398-54B4-4874-BBC4-FE597DB20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63FFD-2F26-4850-AC32-6858C3FE7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756FA-9855-44B6-853F-E2552C311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5FC83-590E-49E9-AB6C-FC120C012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95CEA-70A6-4C44-99FE-27F66D78A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6E343-B57B-4490-866D-58995AD88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6A071-C3CE-4DB2-8D8F-C4770D01B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8742E-AD70-4ED7-9A77-797267DF5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0CB5A-FFB0-49DF-9C1F-19EA21B70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FE27A-95E9-4F0C-BADA-2A8A7C73C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B3108-EB36-466A-933C-14AA3624AB5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B2E9B-F1A5-4777-8C12-C40D884B68C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transparent signal path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and acknowledge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termine if destination is fr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 pat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locking or Non-bloc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twork is unable to connect stations because all paths are in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locking network allows th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voice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rt duration ca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all stations to connect (in pairs) at o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some data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c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analog environ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bar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crosspoints grows as square of number of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s of crosspoint prevent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efficient use of cross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stations connected, only a few crosspoints in u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bar Matrix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2209680" y="1447920"/>
            <a:ext cx="47530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number of cross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one path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7120"/>
          <a:stretch/>
        </p:blipFill>
        <p:spPr>
          <a:xfrm>
            <a:off x="685800" y="1371600"/>
            <a:ext cx="7848720" cy="53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tion low speed bit stream into pieces that share higher speed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DM bus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synchronous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hrough controlled gates to high speed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lot allows small amount of data onto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line’s gate is enabled for output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connections will need paths through more than on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find a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ili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witches are a tree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routing uses the same approach all th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routing allows for changes in routing depending on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a peer structure fo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ssible routes between end offices pre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lects appropriate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s listed in preference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sets of routes may be used at different ti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15436"/>
          <a:stretch/>
        </p:blipFill>
        <p:spPr>
          <a:xfrm>
            <a:off x="2205000" y="1409760"/>
            <a:ext cx="473400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ransmission is typically done over a network of switched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not concerned with conte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devices are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, terminal, phone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nodes and connections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outed by being switched from node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ble communication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dialed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an not be complet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end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o ring 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lling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quipment and trunk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agnostic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of specialist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 Seque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phones on ho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ifts receiver (off hoo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switch signa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responds with dial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er dials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arget not busy, send ringer signal to target subscr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to cal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nging tone, engaged tone, unobtain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accepts call by lifting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terminates ringing signal and ringing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establish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release when Source subscriber hangs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 to Switch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s connected to differen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izes interswitch tru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ff hook signal on trunk, requesting digit register at target switch (for addres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ing switch sends off hook followed by on hook (wink) to show register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nds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1112"/>
          <a:stretch/>
        </p:blipFill>
        <p:spPr>
          <a:xfrm>
            <a:off x="685800" y="1371600"/>
            <a:ext cx="7696080" cy="54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pends on subscriber device and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of subscriber calls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e com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ame channel for signaling and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no additional transmission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same frequencies as voi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go anywhere a voice signal c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ssible to set up a call on a faulty speech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 of 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signals do not use full 4kHz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signal band within 4kHz used f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sent whether or not voice signals are pre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extra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ower signal rate (narrow bandwid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rawbacks of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transfer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between entering address (dialing) and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come by use of common channe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signals carried over paths independent of voice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 control signal channel can carry signals for a number of subscriber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ontrol channel for these subscriber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channel closely tracks interswitch trunk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tional nodes (signal transfer point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ectively two separate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v.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679"/>
          <a:stretch/>
        </p:blipFill>
        <p:spPr>
          <a:xfrm>
            <a:off x="685800" y="1371600"/>
            <a:ext cx="7772400" cy="54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6277"/>
          <a:stretch/>
        </p:blipFill>
        <p:spPr>
          <a:xfrm>
            <a:off x="3765600" y="0"/>
            <a:ext cx="5378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ay connect to other nodes only, or to stations and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to node links usually multiple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s usually partially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redundant connections are desirable for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different switching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System Number 7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S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hannel signal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mized for 64k digital channe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, remote control, management and mainten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means of transfer of info in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ll operate over analog and below 64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terrestrial and satellite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S7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point (S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point in the network capable of handling SS7 control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ransfer point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ing point capable of routing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sible for establishing and managing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a connection is set up, info is transferred in the information pla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fer Poi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3733" t="0" r="4980" b="6689"/>
          <a:stretch/>
        </p:blipFill>
        <p:spPr>
          <a:xfrm>
            <a:off x="4322880" y="228600"/>
            <a:ext cx="459252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Struc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P capac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ignaling links that can be hand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ransf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oughput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ility of network to provide services in the face of STP fail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company web sites (not much technical info - mostly marke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e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6337"/>
          <a:stretch/>
        </p:blipFill>
        <p:spPr>
          <a:xfrm>
            <a:off x="1143000" y="1371600"/>
            <a:ext cx="7010280" cy="54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 path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switching capacity and channel capacity to establish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intelligence to work out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nel capacity dedicated for duration of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, capacity was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up (connection) takes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transfer is trans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voice traffic (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Circuit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1322"/>
          <a:stretch/>
        </p:blipFill>
        <p:spPr>
          <a:xfrm>
            <a:off x="228600" y="1557360"/>
            <a:ext cx="8458200" cy="42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lecomms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ttached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ing cen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- supports subscri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anches between ex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348"/>
          <a:stretch/>
        </p:blipFill>
        <p:spPr>
          <a:xfrm>
            <a:off x="2438280" y="1371600"/>
            <a:ext cx="3711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4T11:59:01Z</dcterms:created>
  <dc:creator>Adrian J Pullin</dc:creator>
  <dc:description/>
  <dc:language>en-US</dc:language>
  <cp:lastModifiedBy>Adrian J Pullin</cp:lastModifiedBy>
  <dcterms:modified xsi:type="dcterms:W3CDTF">1999-10-20T13:46:15Z</dcterms:modified>
  <cp:revision>32</cp:revision>
  <dc:subject/>
  <dc:title>William Stallings Data and Computer Communications</dc:title>
</cp:coreProperties>
</file>